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8D0-7F1D-4553-ACEF-6F80165F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655-5382-4597-9913-D72B0887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2DB-FDAB-43EF-A457-EAA35179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17D-DFE0-413F-9B7C-D3E94765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7DA-1BB1-46DB-BCFE-43803A23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A1B5-0786-4B8E-9453-AF60A37F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6B93-C2ED-43EA-BAC7-495B40D5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E51-B4EC-4252-A695-7ADF26EF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3DF-A6EA-4462-93E7-76677782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EFC-062A-484D-84DD-E6A22E92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DC3-766C-4346-9809-3246D61E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AF4C-DC1C-4C94-BA1A-FE1F4E68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1644-B466-459C-8B11-6AA0EB7F7F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03640" y="1268280"/>
            <a:ext cx="3692520" cy="4248360"/>
            <a:chOff x="3203640" y="1268280"/>
            <a:chExt cx="3692520" cy="4248360"/>
          </a:xfrm>
        </p:grpSpPr>
        <p:sp>
          <p:nvSpPr>
            <p:cNvPr id="42" name=""/>
            <p:cNvSpPr/>
            <p:nvPr/>
          </p:nvSpPr>
          <p:spPr>
            <a:xfrm>
              <a:off x="5580000" y="3160800"/>
              <a:ext cx="1316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creasing randomn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3203640" y="1268280"/>
              <a:ext cx="2396880" cy="4248360"/>
              <a:chOff x="3203640" y="1268280"/>
              <a:chExt cx="2396880" cy="4248360"/>
            </a:xfrm>
          </p:grpSpPr>
          <p:sp>
            <p:nvSpPr>
              <p:cNvPr id="44" name=""/>
              <p:cNvSpPr/>
              <p:nvPr/>
            </p:nvSpPr>
            <p:spPr>
              <a:xfrm>
                <a:off x="4251240" y="1492200"/>
                <a:ext cx="13356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162320" y="1849320"/>
                <a:ext cx="13356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249800" y="220824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514760" y="2430360"/>
                <a:ext cx="13356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913280" y="2432160"/>
                <a:ext cx="1350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222880" y="2208240"/>
                <a:ext cx="133200" cy="136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322960" y="185112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224320" y="1494000"/>
                <a:ext cx="133560" cy="134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959360" y="127008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560840" y="126828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" name=""/>
              <p:cNvCxnSpPr>
                <a:stCxn id="44" idx="7"/>
                <a:endCxn id="53" idx="3"/>
              </p:cNvCxnSpPr>
              <p:nvPr/>
            </p:nvCxnSpPr>
            <p:spPr>
              <a:xfrm flipV="1">
                <a:off x="4365360" y="1383480"/>
                <a:ext cx="215280" cy="128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5" name=""/>
              <p:cNvCxnSpPr>
                <a:stCxn id="44" idx="3"/>
                <a:endCxn id="45" idx="0"/>
              </p:cNvCxnSpPr>
              <p:nvPr/>
            </p:nvCxnSpPr>
            <p:spPr>
              <a:xfrm flipH="1">
                <a:off x="4229280" y="1607400"/>
                <a:ext cx="4176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6" name=""/>
              <p:cNvCxnSpPr>
                <a:stCxn id="45" idx="4"/>
                <a:endCxn id="46" idx="1"/>
              </p:cNvCxnSpPr>
              <p:nvPr/>
            </p:nvCxnSpPr>
            <p:spPr>
              <a:xfrm>
                <a:off x="4229280" y="1984320"/>
                <a:ext cx="40320" cy="244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7" name=""/>
              <p:cNvCxnSpPr>
                <a:stCxn id="46" idx="5"/>
                <a:endCxn id="47" idx="1"/>
              </p:cNvCxnSpPr>
              <p:nvPr/>
            </p:nvCxnSpPr>
            <p:spPr>
              <a:xfrm>
                <a:off x="4363560" y="2323440"/>
                <a:ext cx="171000" cy="12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8" name=""/>
              <p:cNvCxnSpPr>
                <a:stCxn id="47" idx="6"/>
                <a:endCxn id="48" idx="2"/>
              </p:cNvCxnSpPr>
              <p:nvPr/>
            </p:nvCxnSpPr>
            <p:spPr>
              <a:xfrm>
                <a:off x="4648320" y="2498040"/>
                <a:ext cx="2653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59" name=""/>
              <p:cNvCxnSpPr>
                <a:stCxn id="48" idx="7"/>
                <a:endCxn id="49" idx="3"/>
              </p:cNvCxnSpPr>
              <p:nvPr/>
            </p:nvCxnSpPr>
            <p:spPr>
              <a:xfrm flipV="1">
                <a:off x="5028480" y="2324880"/>
                <a:ext cx="214200" cy="127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0" name=""/>
              <p:cNvCxnSpPr>
                <a:stCxn id="49" idx="7"/>
                <a:endCxn id="50" idx="4"/>
              </p:cNvCxnSpPr>
              <p:nvPr/>
            </p:nvCxnSpPr>
            <p:spPr>
              <a:xfrm flipV="1">
                <a:off x="5336640" y="1986120"/>
                <a:ext cx="5328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1" name=""/>
              <p:cNvCxnSpPr>
                <a:stCxn id="50" idx="0"/>
                <a:endCxn id="51" idx="5"/>
              </p:cNvCxnSpPr>
              <p:nvPr/>
            </p:nvCxnSpPr>
            <p:spPr>
              <a:xfrm flipH="1" flipV="1">
                <a:off x="5338440" y="1609200"/>
                <a:ext cx="5148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2" name=""/>
              <p:cNvCxnSpPr>
                <a:stCxn id="51" idx="1"/>
                <a:endCxn id="52" idx="5"/>
              </p:cNvCxnSpPr>
              <p:nvPr/>
            </p:nvCxnSpPr>
            <p:spPr>
              <a:xfrm flipH="1" flipV="1">
                <a:off x="5073120" y="1385280"/>
                <a:ext cx="171000" cy="128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3" name=""/>
              <p:cNvCxnSpPr>
                <a:stCxn id="52" idx="2"/>
                <a:endCxn id="53" idx="6"/>
              </p:cNvCxnSpPr>
              <p:nvPr/>
            </p:nvCxnSpPr>
            <p:spPr>
              <a:xfrm flipH="1" flipV="1">
                <a:off x="4694040" y="1335960"/>
                <a:ext cx="26568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4" name=""/>
              <p:cNvCxnSpPr>
                <a:stCxn id="44" idx="7"/>
                <a:endCxn id="52" idx="3"/>
              </p:cNvCxnSpPr>
              <p:nvPr/>
            </p:nvCxnSpPr>
            <p:spPr>
              <a:xfrm flipV="1">
                <a:off x="4365360" y="1385280"/>
                <a:ext cx="613800" cy="12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5" name=""/>
              <p:cNvCxnSpPr>
                <a:stCxn id="53" idx="5"/>
                <a:endCxn id="51" idx="1"/>
              </p:cNvCxnSpPr>
              <p:nvPr/>
            </p:nvCxnSpPr>
            <p:spPr>
              <a:xfrm>
                <a:off x="4674600" y="1383480"/>
                <a:ext cx="569520" cy="130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6" name=""/>
              <p:cNvCxnSpPr>
                <a:stCxn id="52" idx="5"/>
                <a:endCxn id="50" idx="1"/>
              </p:cNvCxnSpPr>
              <p:nvPr/>
            </p:nvCxnSpPr>
            <p:spPr>
              <a:xfrm>
                <a:off x="5073120" y="1385280"/>
                <a:ext cx="269640" cy="48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7" name=""/>
              <p:cNvCxnSpPr>
                <a:stCxn id="51" idx="4"/>
                <a:endCxn id="49" idx="0"/>
              </p:cNvCxnSpPr>
              <p:nvPr/>
            </p:nvCxnSpPr>
            <p:spPr>
              <a:xfrm flipH="1">
                <a:off x="5289480" y="1628640"/>
                <a:ext cx="2160" cy="57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8" name=""/>
              <p:cNvCxnSpPr>
                <a:stCxn id="50" idx="3"/>
                <a:endCxn id="48" idx="7"/>
              </p:cNvCxnSpPr>
              <p:nvPr/>
            </p:nvCxnSpPr>
            <p:spPr>
              <a:xfrm flipH="1">
                <a:off x="5028480" y="1966320"/>
                <a:ext cx="314280" cy="48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9" name=""/>
              <p:cNvCxnSpPr>
                <a:stCxn id="49" idx="2"/>
                <a:endCxn id="47" idx="6"/>
              </p:cNvCxnSpPr>
              <p:nvPr/>
            </p:nvCxnSpPr>
            <p:spPr>
              <a:xfrm flipH="1">
                <a:off x="4648320" y="2276640"/>
                <a:ext cx="574920" cy="221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0" name=""/>
              <p:cNvCxnSpPr>
                <a:stCxn id="48" idx="2"/>
                <a:endCxn id="46" idx="6"/>
              </p:cNvCxnSpPr>
              <p:nvPr/>
            </p:nvCxnSpPr>
            <p:spPr>
              <a:xfrm flipH="1" flipV="1">
                <a:off x="4383000" y="2275920"/>
                <a:ext cx="530640" cy="224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1" name=""/>
              <p:cNvCxnSpPr>
                <a:stCxn id="47" idx="1"/>
                <a:endCxn id="45" idx="5"/>
              </p:cNvCxnSpPr>
              <p:nvPr/>
            </p:nvCxnSpPr>
            <p:spPr>
              <a:xfrm flipH="1" flipV="1">
                <a:off x="4276440" y="1964520"/>
                <a:ext cx="258120" cy="48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2" name=""/>
              <p:cNvCxnSpPr>
                <a:stCxn id="46" idx="0"/>
                <a:endCxn id="44" idx="4"/>
              </p:cNvCxnSpPr>
              <p:nvPr/>
            </p:nvCxnSpPr>
            <p:spPr>
              <a:xfrm flipV="1">
                <a:off x="4316400" y="1627200"/>
                <a:ext cx="2160" cy="581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73" name=""/>
              <p:cNvCxnSpPr>
                <a:stCxn id="45" idx="7"/>
                <a:endCxn id="53" idx="3"/>
              </p:cNvCxnSpPr>
              <p:nvPr/>
            </p:nvCxnSpPr>
            <p:spPr>
              <a:xfrm flipV="1">
                <a:off x="4276440" y="1383480"/>
                <a:ext cx="304200" cy="48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4" name=""/>
              <p:cNvSpPr/>
              <p:nvPr/>
            </p:nvSpPr>
            <p:spPr>
              <a:xfrm>
                <a:off x="4249800" y="296532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160880" y="332424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48000" y="3681360"/>
                <a:ext cx="13356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13320" y="3905280"/>
                <a:ext cx="1350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913280" y="390528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222880" y="3683160"/>
                <a:ext cx="133200" cy="134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321160" y="3324240"/>
                <a:ext cx="133560" cy="136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22880" y="296712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957560" y="2743200"/>
                <a:ext cx="13356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559400" y="2741760"/>
                <a:ext cx="133200" cy="1364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4" name=""/>
              <p:cNvCxnSpPr>
                <a:stCxn id="78" idx="1"/>
                <a:endCxn id="83" idx="3"/>
              </p:cNvCxnSpPr>
              <p:nvPr/>
            </p:nvCxnSpPr>
            <p:spPr>
              <a:xfrm flipH="1" flipV="1">
                <a:off x="4578840" y="2858400"/>
                <a:ext cx="354240" cy="1067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5" name=""/>
              <p:cNvCxnSpPr>
                <a:stCxn id="74" idx="3"/>
                <a:endCxn id="75" idx="0"/>
              </p:cNvCxnSpPr>
              <p:nvPr/>
            </p:nvCxnSpPr>
            <p:spPr>
              <a:xfrm flipH="1">
                <a:off x="4227480" y="3080520"/>
                <a:ext cx="42120" cy="244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6" name=""/>
              <p:cNvCxnSpPr>
                <a:stCxn id="81" idx="3"/>
                <a:endCxn id="76" idx="6"/>
              </p:cNvCxnSpPr>
              <p:nvPr/>
            </p:nvCxnSpPr>
            <p:spPr>
              <a:xfrm flipH="1">
                <a:off x="4381560" y="3082320"/>
                <a:ext cx="861120" cy="66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7" name=""/>
              <p:cNvCxnSpPr>
                <a:stCxn id="76" idx="5"/>
                <a:endCxn id="77" idx="1"/>
              </p:cNvCxnSpPr>
              <p:nvPr/>
            </p:nvCxnSpPr>
            <p:spPr>
              <a:xfrm>
                <a:off x="4362120" y="3796560"/>
                <a:ext cx="171360" cy="128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" name=""/>
              <p:cNvCxnSpPr>
                <a:stCxn id="77" idx="6"/>
                <a:endCxn id="78" idx="2"/>
              </p:cNvCxnSpPr>
              <p:nvPr/>
            </p:nvCxnSpPr>
            <p:spPr>
              <a:xfrm>
                <a:off x="4648320" y="3972960"/>
                <a:ext cx="26532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" name=""/>
              <p:cNvCxnSpPr>
                <a:stCxn id="78" idx="7"/>
                <a:endCxn id="79" idx="3"/>
              </p:cNvCxnSpPr>
              <p:nvPr/>
            </p:nvCxnSpPr>
            <p:spPr>
              <a:xfrm flipV="1">
                <a:off x="5027040" y="3798360"/>
                <a:ext cx="215640" cy="12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" name=""/>
              <p:cNvCxnSpPr>
                <a:stCxn id="79" idx="7"/>
                <a:endCxn id="80" idx="4"/>
              </p:cNvCxnSpPr>
              <p:nvPr/>
            </p:nvCxnSpPr>
            <p:spPr>
              <a:xfrm flipV="1">
                <a:off x="5336640" y="3460680"/>
                <a:ext cx="5184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1" name=""/>
              <p:cNvCxnSpPr>
                <a:stCxn id="80" idx="0"/>
                <a:endCxn id="81" idx="5"/>
              </p:cNvCxnSpPr>
              <p:nvPr/>
            </p:nvCxnSpPr>
            <p:spPr>
              <a:xfrm flipH="1" flipV="1">
                <a:off x="5336640" y="3082320"/>
                <a:ext cx="5184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2" name=""/>
              <p:cNvCxnSpPr>
                <a:stCxn id="81" idx="1"/>
                <a:endCxn id="82" idx="5"/>
              </p:cNvCxnSpPr>
              <p:nvPr/>
            </p:nvCxnSpPr>
            <p:spPr>
              <a:xfrm flipH="1" flipV="1">
                <a:off x="5071680" y="2858400"/>
                <a:ext cx="171000" cy="128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3" name=""/>
              <p:cNvCxnSpPr>
                <a:stCxn id="82" idx="2"/>
                <a:endCxn id="83" idx="6"/>
              </p:cNvCxnSpPr>
              <p:nvPr/>
            </p:nvCxnSpPr>
            <p:spPr>
              <a:xfrm flipH="1" flipV="1">
                <a:off x="4692600" y="2810160"/>
                <a:ext cx="2653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4" name=""/>
              <p:cNvCxnSpPr>
                <a:stCxn id="74" idx="7"/>
                <a:endCxn id="82" idx="3"/>
              </p:cNvCxnSpPr>
              <p:nvPr/>
            </p:nvCxnSpPr>
            <p:spPr>
              <a:xfrm flipV="1">
                <a:off x="4363560" y="2858400"/>
                <a:ext cx="613800" cy="127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5" name=""/>
              <p:cNvCxnSpPr>
                <a:stCxn id="83" idx="5"/>
                <a:endCxn id="81" idx="1"/>
              </p:cNvCxnSpPr>
              <p:nvPr/>
            </p:nvCxnSpPr>
            <p:spPr>
              <a:xfrm>
                <a:off x="4673160" y="2858400"/>
                <a:ext cx="569520" cy="128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6" name=""/>
              <p:cNvCxnSpPr>
                <a:stCxn id="82" idx="5"/>
                <a:endCxn id="80" idx="1"/>
              </p:cNvCxnSpPr>
              <p:nvPr/>
            </p:nvCxnSpPr>
            <p:spPr>
              <a:xfrm>
                <a:off x="5071680" y="2858400"/>
                <a:ext cx="269280" cy="48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7" name=""/>
              <p:cNvCxnSpPr>
                <a:stCxn id="81" idx="4"/>
                <a:endCxn id="79" idx="0"/>
              </p:cNvCxnSpPr>
              <p:nvPr/>
            </p:nvCxnSpPr>
            <p:spPr>
              <a:xfrm>
                <a:off x="5289480" y="3102120"/>
                <a:ext cx="360" cy="581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8" name=""/>
              <p:cNvCxnSpPr>
                <a:stCxn id="80" idx="3"/>
                <a:endCxn id="78" idx="7"/>
              </p:cNvCxnSpPr>
              <p:nvPr/>
            </p:nvCxnSpPr>
            <p:spPr>
              <a:xfrm flipH="1">
                <a:off x="5027040" y="3440880"/>
                <a:ext cx="313920" cy="484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9" name=""/>
              <p:cNvCxnSpPr>
                <a:stCxn id="79" idx="2"/>
                <a:endCxn id="77" idx="6"/>
              </p:cNvCxnSpPr>
              <p:nvPr/>
            </p:nvCxnSpPr>
            <p:spPr>
              <a:xfrm flipH="1">
                <a:off x="4648320" y="3750480"/>
                <a:ext cx="574920" cy="222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0" name=""/>
              <p:cNvCxnSpPr>
                <a:stCxn id="78" idx="2"/>
                <a:endCxn id="76" idx="6"/>
              </p:cNvCxnSpPr>
              <p:nvPr/>
            </p:nvCxnSpPr>
            <p:spPr>
              <a:xfrm flipH="1" flipV="1">
                <a:off x="4381560" y="3749040"/>
                <a:ext cx="532080" cy="224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1" name=""/>
              <p:cNvCxnSpPr>
                <a:stCxn id="77" idx="1"/>
                <a:endCxn id="75" idx="5"/>
              </p:cNvCxnSpPr>
              <p:nvPr/>
            </p:nvCxnSpPr>
            <p:spPr>
              <a:xfrm flipH="1" flipV="1">
                <a:off x="4274640" y="3439440"/>
                <a:ext cx="258840" cy="48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2" name=""/>
              <p:cNvCxnSpPr>
                <a:stCxn id="76" idx="0"/>
                <a:endCxn id="74" idx="4"/>
              </p:cNvCxnSpPr>
              <p:nvPr/>
            </p:nvCxnSpPr>
            <p:spPr>
              <a:xfrm flipV="1">
                <a:off x="4314960" y="3100320"/>
                <a:ext cx="1800" cy="581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3" name=""/>
              <p:cNvCxnSpPr>
                <a:stCxn id="75" idx="7"/>
                <a:endCxn id="79" idx="1"/>
              </p:cNvCxnSpPr>
              <p:nvPr/>
            </p:nvCxnSpPr>
            <p:spPr>
              <a:xfrm>
                <a:off x="4274640" y="3344040"/>
                <a:ext cx="968040" cy="358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4" name=""/>
              <p:cNvSpPr/>
              <p:nvPr/>
            </p:nvSpPr>
            <p:spPr>
              <a:xfrm>
                <a:off x="4249800" y="4442040"/>
                <a:ext cx="133200" cy="134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60880" y="480060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48000" y="5157720"/>
                <a:ext cx="13356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13320" y="5380200"/>
                <a:ext cx="135000" cy="134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913280" y="538164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222880" y="515952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321160" y="4800600"/>
                <a:ext cx="13356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222880" y="444348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57560" y="4219560"/>
                <a:ext cx="13356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559400" y="4218120"/>
                <a:ext cx="133200" cy="13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" name=""/>
              <p:cNvCxnSpPr>
                <a:stCxn id="104" idx="7"/>
                <a:endCxn id="113" idx="3"/>
              </p:cNvCxnSpPr>
              <p:nvPr/>
            </p:nvCxnSpPr>
            <p:spPr>
              <a:xfrm flipV="1">
                <a:off x="4363560" y="4333320"/>
                <a:ext cx="215640" cy="128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5" name=""/>
              <p:cNvCxnSpPr>
                <a:stCxn id="104" idx="5"/>
                <a:endCxn id="109" idx="2"/>
              </p:cNvCxnSpPr>
              <p:nvPr/>
            </p:nvCxnSpPr>
            <p:spPr>
              <a:xfrm>
                <a:off x="4363560" y="4557240"/>
                <a:ext cx="859680" cy="670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6" name=""/>
              <p:cNvCxnSpPr>
                <a:stCxn id="105" idx="4"/>
                <a:endCxn id="111" idx="2"/>
              </p:cNvCxnSpPr>
              <p:nvPr/>
            </p:nvCxnSpPr>
            <p:spPr>
              <a:xfrm flipV="1">
                <a:off x="4227480" y="4511160"/>
                <a:ext cx="995760" cy="424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7" name=""/>
              <p:cNvCxnSpPr>
                <a:stCxn id="106" idx="5"/>
                <a:endCxn id="109" idx="2"/>
              </p:cNvCxnSpPr>
              <p:nvPr/>
            </p:nvCxnSpPr>
            <p:spPr>
              <a:xfrm flipV="1">
                <a:off x="4362120" y="5227200"/>
                <a:ext cx="861120" cy="46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8" name=""/>
              <p:cNvCxnSpPr>
                <a:stCxn id="107" idx="6"/>
                <a:endCxn id="110" idx="2"/>
              </p:cNvCxnSpPr>
              <p:nvPr/>
            </p:nvCxnSpPr>
            <p:spPr>
              <a:xfrm flipV="1">
                <a:off x="4648320" y="4868280"/>
                <a:ext cx="673200" cy="579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9" name=""/>
              <p:cNvCxnSpPr>
                <a:stCxn id="108" idx="7"/>
                <a:endCxn id="104" idx="5"/>
              </p:cNvCxnSpPr>
              <p:nvPr/>
            </p:nvCxnSpPr>
            <p:spPr>
              <a:xfrm flipH="1" flipV="1">
                <a:off x="4363560" y="4557240"/>
                <a:ext cx="663840" cy="844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0" name=""/>
              <p:cNvCxnSpPr>
                <a:stCxn id="106" idx="6"/>
                <a:endCxn id="110" idx="4"/>
              </p:cNvCxnSpPr>
              <p:nvPr/>
            </p:nvCxnSpPr>
            <p:spPr>
              <a:xfrm flipV="1">
                <a:off x="4381560" y="4935600"/>
                <a:ext cx="1006920" cy="290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1" name=""/>
              <p:cNvCxnSpPr>
                <a:stCxn id="110" idx="0"/>
                <a:endCxn id="111" idx="5"/>
              </p:cNvCxnSpPr>
              <p:nvPr/>
            </p:nvCxnSpPr>
            <p:spPr>
              <a:xfrm flipH="1" flipV="1">
                <a:off x="5336640" y="4558680"/>
                <a:ext cx="5184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2" name=""/>
              <p:cNvCxnSpPr>
                <a:stCxn id="108" idx="0"/>
                <a:endCxn id="113" idx="5"/>
              </p:cNvCxnSpPr>
              <p:nvPr/>
            </p:nvCxnSpPr>
            <p:spPr>
              <a:xfrm flipH="1" flipV="1">
                <a:off x="4673160" y="4333320"/>
                <a:ext cx="307080" cy="1048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3" name=""/>
              <p:cNvCxnSpPr>
                <a:stCxn id="112" idx="2"/>
                <a:endCxn id="106" idx="7"/>
              </p:cNvCxnSpPr>
              <p:nvPr/>
            </p:nvCxnSpPr>
            <p:spPr>
              <a:xfrm flipH="1">
                <a:off x="4362120" y="4287240"/>
                <a:ext cx="595800" cy="890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4" name=""/>
              <p:cNvCxnSpPr>
                <a:stCxn id="104" idx="7"/>
                <a:endCxn id="111" idx="2"/>
              </p:cNvCxnSpPr>
              <p:nvPr/>
            </p:nvCxnSpPr>
            <p:spPr>
              <a:xfrm>
                <a:off x="4363560" y="4461480"/>
                <a:ext cx="859680" cy="5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5" name=""/>
              <p:cNvCxnSpPr>
                <a:stCxn id="107" idx="7"/>
                <a:endCxn id="111" idx="1"/>
              </p:cNvCxnSpPr>
              <p:nvPr/>
            </p:nvCxnSpPr>
            <p:spPr>
              <a:xfrm flipV="1">
                <a:off x="4628520" y="4463280"/>
                <a:ext cx="614160" cy="936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6" name=""/>
              <p:cNvCxnSpPr>
                <a:stCxn id="112" idx="4"/>
                <a:endCxn id="108" idx="0"/>
              </p:cNvCxnSpPr>
              <p:nvPr/>
            </p:nvCxnSpPr>
            <p:spPr>
              <a:xfrm flipH="1">
                <a:off x="4979880" y="4354560"/>
                <a:ext cx="45000" cy="1027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7" name=""/>
              <p:cNvCxnSpPr>
                <a:stCxn id="111" idx="4"/>
                <a:endCxn id="109" idx="0"/>
              </p:cNvCxnSpPr>
              <p:nvPr/>
            </p:nvCxnSpPr>
            <p:spPr>
              <a:xfrm>
                <a:off x="5289480" y="4578480"/>
                <a:ext cx="360" cy="581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8" name=""/>
              <p:cNvCxnSpPr>
                <a:stCxn id="110" idx="3"/>
                <a:endCxn id="108" idx="7"/>
              </p:cNvCxnSpPr>
              <p:nvPr/>
            </p:nvCxnSpPr>
            <p:spPr>
              <a:xfrm flipH="1">
                <a:off x="5027040" y="4915800"/>
                <a:ext cx="313920" cy="48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29" name=""/>
              <p:cNvCxnSpPr>
                <a:stCxn id="112" idx="3"/>
                <a:endCxn id="107" idx="7"/>
              </p:cNvCxnSpPr>
              <p:nvPr/>
            </p:nvCxnSpPr>
            <p:spPr>
              <a:xfrm flipH="1">
                <a:off x="4628520" y="4334760"/>
                <a:ext cx="348840" cy="1065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0" name=""/>
              <p:cNvCxnSpPr>
                <a:stCxn id="113" idx="3"/>
                <a:endCxn id="106" idx="6"/>
              </p:cNvCxnSpPr>
              <p:nvPr/>
            </p:nvCxnSpPr>
            <p:spPr>
              <a:xfrm flipH="1">
                <a:off x="4381560" y="4333320"/>
                <a:ext cx="197640" cy="892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1" name=""/>
              <p:cNvCxnSpPr>
                <a:stCxn id="110" idx="2"/>
                <a:endCxn id="105" idx="5"/>
              </p:cNvCxnSpPr>
              <p:nvPr/>
            </p:nvCxnSpPr>
            <p:spPr>
              <a:xfrm flipH="1">
                <a:off x="4274640" y="4868280"/>
                <a:ext cx="1046880" cy="47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2" name=""/>
              <p:cNvCxnSpPr>
                <a:stCxn id="107" idx="0"/>
                <a:endCxn id="104" idx="4"/>
              </p:cNvCxnSpPr>
              <p:nvPr/>
            </p:nvCxnSpPr>
            <p:spPr>
              <a:xfrm flipH="1" flipV="1">
                <a:off x="4316400" y="4576680"/>
                <a:ext cx="264960" cy="80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3" name=""/>
              <p:cNvCxnSpPr>
                <a:stCxn id="105" idx="7"/>
                <a:endCxn id="113" idx="3"/>
              </p:cNvCxnSpPr>
              <p:nvPr/>
            </p:nvCxnSpPr>
            <p:spPr>
              <a:xfrm flipV="1">
                <a:off x="4274640" y="4333320"/>
                <a:ext cx="304560" cy="487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4" name=""/>
              <p:cNvSpPr/>
              <p:nvPr/>
            </p:nvSpPr>
            <p:spPr>
              <a:xfrm>
                <a:off x="5600520" y="1700280"/>
                <a:ext cx="0" cy="338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03640" y="3259080"/>
                <a:ext cx="884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mall-world 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224160" y="4687920"/>
                <a:ext cx="884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andom 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24160" y="1700280"/>
                <a:ext cx="8841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gular 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521640" y="857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6:45:31Z</dcterms:created>
  <dc:creator>Hugh Lewis</dc:creator>
  <dc:description/>
  <dc:language>en-US</dc:language>
  <cp:lastModifiedBy>Hugh Lewis</cp:lastModifiedBy>
  <dcterms:modified xsi:type="dcterms:W3CDTF">2009-01-31T14:50:28Z</dcterms:modified>
  <cp:revision>24</cp:revision>
  <dc:subject/>
  <dc:title>Slide 1</dc:title>
</cp:coreProperties>
</file>